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D7E-290C-4BAC-8F92-8C3DC75D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68F-0C7B-43B1-BFDC-A6B22F0C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2DA-F487-4282-92FA-7AF5F793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69C-010C-4097-AB34-29AC4B09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DD57-11CC-4A82-95E1-8774088B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F294-946A-4EB9-B964-FCEE2E6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D61E-BB4E-4622-9AC9-83464632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EDAF-10FB-434F-B488-2D03449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ED75-2D26-494A-92C3-71152E11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1A07-A5EF-4306-9959-DEE5B078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571B-839F-48C3-A19B-C2B82DB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013-3B35-4DBE-BB3A-D661E3B5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802A-0D50-41F1-B695-F071AC9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0AF3-3929-461E-BD7C-1446312D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864D-7677-4323-9F5B-22FA5B0A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1C61-3E08-4DDA-8704-443303B3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CA2E-E25E-4F13-92CA-66FA03DC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0B4-88FD-4409-8527-5921D22A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445-93D2-4718-BC53-7EC696E3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435-9D28-4630-A35C-6D1DDE0C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178-CE0B-4585-B354-692B651D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8B8-1077-459F-9936-85D1220B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C3B-4C14-4482-8ABA-085ABCA2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B2F-8729-4F71-95F4-240B675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C486-A838-46BA-9F09-6AF7E914AB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CC66-A717-409E-8D92-EC18186C5A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ПРАВЉАЊ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ТРОШКОВ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организациј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фикација дуплираних послова, документовање стања (систематизација) и елиминац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клађивање величине организације и броја запосле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асно дефинисање надлежности и одговорности да би се повећала ефикасн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и јасне описе по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ођење информационог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финансиј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ја непотребних машина, опреме и материј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најмљивање простора који није у употреби за обављање актив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жити убрзању пословних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људским ресурси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ионалан избор (селекција) запослених и менаџмен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иденција радног време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ањивање флукту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ањивање изостанака са пос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ћање продуктивности кроз обуку запосле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њивање радног учинка и награђивање запослених у складу са перформанс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Систематски приступ управљања трошковим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ин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џетирање актив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љање циљева и мерење одступ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ирање извештаја о успешности смањења трош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дентификација кључних акти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је потребно спровести у рационализацији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дентификација полазних тачака за смањење трошк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према одговарајућих ме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ормулисање мера тако да буду применљи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оследна примена м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Модел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ACE</a:t>
            </a: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 анали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за рационализацију трошк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ан систем фактора и индикат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ализован поступ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љиви фактори и индикато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дизовани формулари за прикупљање подата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асна и једноставна упут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вер који подржава анализ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нице за тумачење резулт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ки приказ погодан за презентацију и тумаче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Анализа трош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ложност утицај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 се утицати (краткорочно, средњерочно, дугорочно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 се утицати (барем краткороч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иљ је подела трошкова 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требне трошко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е који се могу избећ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е који се могу снизи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е који се могу одлож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Утврђивање 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једностављење послова и проце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зивање са сличним задаци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ћана употреба машина и апар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шћење услуга других фирми које то ефикасније обављај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изација транспортних путева и периода складишт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а бољих метода и технологогија у радном процес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ћање коришћења капацит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ћање радног учинка кроз обуку запосле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Спровођење 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сање свих запослених који су обухваћени мер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авка и инсталација опреме и уређаја и одговарајућег софтв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према средстава за р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љање временских рокова и одговорних л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упљање и обрада података на рачунару у одговарајућем софт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извршењу услуг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једностављивање услуга да би се брже обављ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јање више услуга да би се добило на време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дизовање услуг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треба једноставних и практичних материј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треба савремених помоћних инструмен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набав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фикација свих релевантних добављача и израда ба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а организација јавних набав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слене укључити у процес набавке у домену њиховог р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овори са добављачима како би се идентфиковали нови производи и услуге који су трошковно ефикасн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времено наручив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набав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фикација свих релевантних добављача и израда ба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а организација јавних набав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слене укључити у процес набавке у домену њиховог р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овори са добављачима како би се идентфиковали нови производи и услуге који су трошковно ефикасн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љање залих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01:57:32Z</dcterms:modified>
  <cp:revision>178</cp:revision>
  <dc:subject/>
  <dc:title>Soft and Hard Skills Development: A Current Situation in Serbian Companies</dc:title>
</cp:coreProperties>
</file>